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37D3-9F94-4C1C-99C8-E90720777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AD6A-2466-448A-93B5-630B68972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72F7-13DA-4E76-AE75-1DC715C3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38B1-3C7C-4C38-AD69-E7909A19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FC6D-A8DD-4B20-A19D-9E50ABCD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E9C7-2AE2-4397-8F18-9ACFF954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A3DA-808B-475A-BC89-16715266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1498-B99D-4703-A0E2-AF699BD5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A2A-7EC7-4362-BBAE-4273A20C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298F-2178-4269-8221-0C93E3BC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24E-F60B-4061-AEA4-0AA44674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1265-9254-442E-BB4C-F2789430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775F-9198-422C-A780-18DA593B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4D76-8283-42B3-9FDE-1AB5DD74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FEB2-83A5-4289-8FFB-2CFEB5DEF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 rot="212736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9646"/>
                </a:solidFill>
                <a:latin typeface="Calibri"/>
              </a:rPr>
              <a:t>Global Ed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4807"/>
                </a:solidFill>
                <a:latin typeface="Calibri"/>
              </a:rPr>
              <a:t>http://globaledge.msu.ed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4807"/>
                </a:solidFill>
                <a:latin typeface="Calibri"/>
              </a:rPr>
              <a:t>What does this website of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6c0a"/>
                </a:solidFill>
                <a:latin typeface="Calibri"/>
              </a:rPr>
              <a:t>Global Resources - more than 5,000 online resour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6c0a"/>
                </a:solidFill>
                <a:latin typeface="Calibri"/>
              </a:rPr>
              <a:t>Countries - a wealth of information on all count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6c0a"/>
                </a:solidFill>
                <a:latin typeface="Calibri"/>
              </a:rPr>
              <a:t>US States - a wealth of information on all US stat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6c0a"/>
                </a:solidFill>
                <a:latin typeface="Calibri"/>
              </a:rPr>
              <a:t>Industries - in-depth analysis of selected industr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6c0a"/>
                </a:solidFill>
                <a:latin typeface="Calibri"/>
              </a:rPr>
              <a:t>International Business Blog - insights on business around the worl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6c0a"/>
                </a:solidFill>
                <a:latin typeface="Calibri"/>
              </a:rPr>
              <a:t>Academy - extensive research and teaching resour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6c0a"/>
                </a:solidFill>
                <a:latin typeface="Calibri"/>
              </a:rPr>
              <a:t>Diagnostic Tools - decision-support tools for manag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6c0a"/>
                </a:solidFill>
                <a:latin typeface="Calibri"/>
              </a:rPr>
              <a:t>globalEDGE Network - connect with 47,034 registered us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5470" t="14582" r="7031" b="6250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0" t="15999" r="7548" b="5999"/>
          <a:stretch/>
        </p:blipFill>
        <p:spPr>
          <a:xfrm>
            <a:off x="228600" y="1066680"/>
            <a:ext cx="3733920" cy="2971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rcRect l="0" t="15094" r="7548" b="6919"/>
          <a:stretch/>
        </p:blipFill>
        <p:spPr>
          <a:xfrm>
            <a:off x="4419720" y="1066680"/>
            <a:ext cx="4038480" cy="2971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rcRect l="0" t="23686" r="8164" b="0"/>
          <a:stretch/>
        </p:blipFill>
        <p:spPr>
          <a:xfrm>
            <a:off x="152280" y="4191120"/>
            <a:ext cx="3810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Fa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s website is used by students interesting and that are into business and business owner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t provide solution for any business issue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92d050"/>
                </a:solidFill>
                <a:latin typeface="Calibri"/>
              </a:rPr>
              <a:t>Government/Consulting Agencies: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veloping government policie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paring other businesses for expansion into foreign market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stablishing best practices and aiding training    program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2d050"/>
                </a:solidFill>
                <a:latin typeface="Calibri"/>
              </a:rPr>
              <a:t>Business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Gauging the organization's global competitivene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ploring the compatibility of international venture partner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stablishing the ability to leverage resources when dealing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freight forwarders and distribu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8:06:57Z</dcterms:created>
  <dc:creator>ccstudent</dc:creator>
  <dc:description/>
  <dc:language>en-US</dc:language>
  <cp:lastModifiedBy>ccstudent</cp:lastModifiedBy>
  <dcterms:modified xsi:type="dcterms:W3CDTF">2011-02-06T18:41:26Z</dcterms:modified>
  <cp:revision>4</cp:revision>
  <dc:subject/>
  <dc:title>Global Edge</dc:title>
</cp:coreProperties>
</file>